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C4E-C22F-472C-97FD-A5434BD1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5B99-B31F-4965-ADCF-CCE604F3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B6FD-4177-43E2-A67F-EB241F95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5BE3-6294-498E-AEDC-2C1F5D88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522F-7CD6-40AE-B8A2-E4475ADF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AE39-4DC0-44E1-8AB2-927F3594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78F9-53FC-4B9B-AFC9-CE7D1293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F61F-4C7F-4388-8BA1-F8319BDC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6AB-E1DD-4F0E-A9FF-5DF9C586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57A6-DC93-4C8C-8D4C-3C00B866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9B4C-0B51-46DE-8468-FD76DE10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0B70-2602-4E5F-ABF9-EB7DD5CC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881A-0DFD-4866-B49E-5F70F33E5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ak it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ch brand of paper towel can hold the most w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redict that Bounty will hold the most water, because it is the most popular br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different brands of paper tow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bea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cil,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1 brand of paper towel place in 200ml of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out with out dripping and squeeze into the second b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until all 5 brands are tested four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external image SamanthaPgraph2.gif"/>
          <p:cNvPicPr/>
          <p:nvPr/>
        </p:nvPicPr>
        <p:blipFill>
          <a:blip r:embed="rId1"/>
          <a:stretch/>
        </p:blipFill>
        <p:spPr>
          <a:xfrm>
            <a:off x="0" y="1905120"/>
            <a:ext cx="4267080" cy="4495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external image SamanthaPgraph1.gif"/>
          <p:cNvPicPr/>
          <p:nvPr/>
        </p:nvPicPr>
        <p:blipFill>
          <a:blip r:embed="rId2"/>
          <a:stretch/>
        </p:blipFill>
        <p:spPr>
          <a:xfrm>
            <a:off x="4419720" y="1905120"/>
            <a:ext cx="44672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6:40:06Z</dcterms:created>
  <dc:creator>STERLING  USD376</dc:creator>
  <dc:description/>
  <dc:language>en-US</dc:language>
  <cp:lastModifiedBy>USD376</cp:lastModifiedBy>
  <dcterms:modified xsi:type="dcterms:W3CDTF">2010-02-11T16:44:30Z</dcterms:modified>
  <cp:revision>5</cp:revision>
  <dc:subject/>
  <dc:title>Soak it up</dc:title>
</cp:coreProperties>
</file>